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chimes.wav" ContentType="audio/x-wav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27.jpeg" ContentType="image/jpeg"/>
  <Override PartName="/ppt/media/image10.png" ContentType="image/png"/>
  <Override PartName="/ppt/media/image29.gif" ContentType="image/gif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12.wmf" ContentType="image/x-wmf"/>
  <Override PartName="/ppt/media/image8.png" ContentType="image/png"/>
  <Override PartName="/ppt/media/image16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8.gif" ContentType="image/gif"/>
  <Override PartName="/ppt/media/image14.png" ContentType="image/png"/>
  <Override PartName="/ppt/media/image17.png" ContentType="image/pn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8E0-3A4E-4CE4-AD92-2284AFA9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FAF-5BB4-4A63-82A1-A91C6689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016C2-0786-4770-A367-11D0B25A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967D8-C251-49B9-884F-4FCE99AE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1C931-23EE-4A32-8A0E-F42764F0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76A8F-1146-44CC-B0E0-39E06C31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AF22C-8665-4F95-B684-D860E2FF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941CA-6B72-463F-9236-B74BEED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3EAC1-33BB-49E4-BA94-A3122D80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4A8B4-45AA-4955-8849-FFBAE824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31DD7-4EA0-4C18-9567-C5ED757D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BCDD5-8635-4E0F-8920-475BD022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82C-B927-41EF-A74B-CB693223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CACAF-250D-448C-9869-2EB83F2F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DE460-387E-491E-AB6E-0962456C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DB237-0C8D-4931-9422-EF0A7421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68372-DBDF-4C0E-A62C-B5F56B99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A5AE5-65BA-4295-9E3A-34A61F03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6A83E-AF8A-4E8E-BA55-07438FFC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659C9-03A5-4C8C-AF6E-70C350CF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965EC-A0C2-46B7-96D4-623718A1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3F247-D2D9-41F7-8F20-9CB913D9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C4500-B429-4A0A-88B7-9ACB171D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DCB-0FC7-4F75-876B-BAB2DC0F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7598F-9CBD-428C-AE31-37D6A0D0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92336-242B-4F28-89FA-64BC9869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7086B-3946-4DCC-9F94-1CA1B1C4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EF063-0930-415F-A7F4-8D13BC1E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EDFF3-2C85-468E-B97E-8946C0EF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E5992-AF45-4A81-99E5-C09CE882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FBAA8-0462-4CAF-8A6B-4CF2F63B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F4A7A-1E33-42B5-A2B2-46265C2A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97AB2-8CF5-4E0A-A38B-A68245F6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5656A-612D-4EC2-855B-AB72A030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300C-540C-4636-AAB4-44FBE971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AA3F4-FA67-494A-9513-27698C6B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F0348-5914-4188-90AB-63674F83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DC45B-B807-4B13-B94D-381ADA83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3FDB-C2EF-42A7-8FF9-B2DB096F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6D61-9D41-454E-9340-B0132E6E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67CF-3246-499D-A986-D22966B4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3A03-EEEA-4195-9F7A-81E4396D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67AF-34ED-4386-9CE5-FB8F88BB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4FB8-07AD-48B6-B34C-85D8040F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271-AE68-4B25-B561-CB167C9C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959B-E9A6-4EC7-B4CA-C6EEDE9A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91E3-4A71-4677-8553-C152AA0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0637-D010-459E-9CC8-0D2EAE28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3772-9608-46D2-A61B-B1D88705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38FE-38A5-41E9-AB9A-E4A5C165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80F9-5856-4CDE-948E-52657765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D0687-D3CD-45FB-A248-9E3532BA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B567-1C42-4B25-ACF4-12846D4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9FA1-3F0C-48E5-83C1-8B450F18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6C98-59CC-4FA7-91C2-5C5F7530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945-C7E4-4787-A6F5-637343F2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D3F2-A73B-4C71-B446-FE1CC94B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4706-8832-4703-98FB-CFFCA3A4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81A0-EF52-44BC-918A-5BD6EFAF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6A552-AC64-47CB-947E-C3EB667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736B-224E-43DA-9566-7611C2C9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EC0D-6715-4327-804E-21907611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C0C0-B376-4639-A691-F56B960C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1368-D6A1-4EC6-9C0B-C2B117ED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2C5C9-933C-4119-8F1A-A8421071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C1D9-AD30-4F08-B371-CA8AE1CC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10E-BF5A-4ABF-B4D6-8D672BD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51A4E-E309-4D0F-9EEE-C99DB897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5258-BFDF-41C6-88BB-40766435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61F1-A4FF-4814-9056-CA8C664E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A77F-D947-4DD2-BD46-994FC10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F5CC1-9AC9-4F62-9B81-1DA46CB9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6834-7A1F-473E-BDA9-25959E5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C2FB-7CC3-453E-B7FA-4988CA90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7444-9C35-4CD3-9C4E-557D8EF6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84724-6DE3-424B-9578-B8F1906F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A021-7B52-4E3A-903C-C42AEE44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173-5A52-4E42-8FAE-FEE2DBF4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FBA67-7B0B-4053-87C7-B617B1B8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7E031-3447-490F-ACF2-293A076C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6B385-E525-4FD1-8B99-3A4D7D80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A037-3E86-4556-8D19-8C808669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75C85-3949-40E4-9092-68FDE7B5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845AC-6192-4CD1-8BB0-AD84A8E0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CB75-71C2-42D2-8540-DCE653CE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3EF9-07F3-44CB-9C3F-48341641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4A8E7-51D7-495F-902B-0C9E0D6A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93104-5C35-4053-81B6-22494E63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4E8-84D1-4518-B3AE-17182E7E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B35A-4245-477E-AF13-AAD7ED84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4D9E4-70F9-4485-B69B-6E262207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78550-6C6E-4C06-9A47-FB67E944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8AD51-C9CB-4C51-8F5C-B5860DC7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564B0-75B1-45AF-AAF0-AF0A71BA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FAA99-4F74-4EDD-B19D-E864228F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B16F-8352-48A4-AFC6-4DEBB205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96A6-5CA1-4055-A310-1D1990CC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67D3-3D9C-4D8D-B812-AE92C897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B10CD-4B03-413C-AA85-3C7AB422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AF6-1D1A-43B6-9ECF-E4621D45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B877E-A4D5-44F9-95B0-C391B149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E468E-ACD9-4CB2-92B8-7656450A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7621A-FE6B-409A-BB8A-8C6852E2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5B97E-55CC-4690-9FA7-6F5E80D0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D28E8-BAFF-4887-97D1-7B13ADDB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03C2-C5C0-4B2B-AF53-C04B0D9E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2040D-9B65-4A7D-B620-BA2862CB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D244-964D-458F-8365-BBB588C2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D9087-BC36-4344-BD9E-F5AE0D47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8946F-16CA-414A-A376-22333EB8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50F-70AD-4655-94F2-A4A0DFF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91250-653A-41A5-B675-7C02B512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9BF0B-D57C-402B-9BD8-B7FA092E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23460-2AFD-4DAA-95C4-33BD14A2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5A3BA-45B0-4F30-A9EA-D2C2B6C0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E6F0B-6B13-47C7-9B32-45C79061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D6258-5DF4-48B1-B71A-8A87D242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7A623-6625-4324-A003-511C43DF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C8523-46E2-458D-8D14-5CF01AA9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C72B7-57E2-4683-9316-E4C371A9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26B9E-68CD-4520-B7F6-561AEEF6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78A-B90A-42C6-844B-A2809B60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7695A-2F53-4FEE-8711-2B9ABE52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3A4DF-C100-4CA4-9F88-3BACAE7E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6B723-375B-4721-AB61-313285D2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B6668-471A-4520-933F-5D35D6BC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00B50-611E-4522-B9BF-AB12EE47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A6CB8-01A5-4E77-97C0-766B0FD5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AECD7-E954-43A8-B623-9A4C2ACD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7F87E-35DE-40C0-8E35-69ED465D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CD21A-CCD4-418E-9FBE-DB8EF18A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6411B-3620-4930-AC5B-B48C357E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F31E-67C2-45A7-8B9B-5CEE61624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46EA-FBB3-4492-8E75-1670CEF61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404B-E03F-4226-81F3-0226ABF64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0823-E4FA-49D1-AA1D-854223A6A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4471-0448-4D5C-9A40-DD324613B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CDB5-E0E1-4380-8087-5F89B5C7D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04B0-9B6E-479F-8899-881BE1FDE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488-6E13-490D-BBDC-3AA5C938D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F1BC-42FE-4D65-B610-99327E165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C2F3-8077-47B3-98A6-F3937F04B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0C34-9C8E-45C5-AA65-B56F5BC7A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200861795854662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7" descr="dyd"/>
          <p:cNvPicPr/>
          <p:nvPr/>
        </p:nvPicPr>
        <p:blipFill>
          <a:blip r:embed="rId3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5233-563E-4D90-A96F-0B4A8A0AD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2007012723312755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97164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标调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187280" y="907920"/>
            <a:ext cx="540072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ɑ o e,i u 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标调时按顺序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，不放过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上标调就摘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并排标后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AD58-A211-4A8E-8B3C-93FE1827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3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4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3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4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46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547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48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49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550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1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553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4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5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556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7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5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8BDD-7475-4514-8E1D-EE8C6ABC5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3"/>
          <p:cNvGrpSpPr/>
          <p:nvPr/>
        </p:nvGrpSpPr>
        <p:grpSpPr>
          <a:xfrm>
            <a:off x="469440" y="7200"/>
            <a:ext cx="8461080" cy="6801120"/>
            <a:chOff x="469440" y="7200"/>
            <a:chExt cx="8461080" cy="6801120"/>
          </a:xfrm>
        </p:grpSpPr>
        <p:sp>
          <p:nvSpPr>
            <p:cNvPr id="562" name="AutoShape 4"/>
            <p:cNvSpPr/>
            <p:nvPr/>
          </p:nvSpPr>
          <p:spPr>
            <a:xfrm rot="3261600">
              <a:off x="6045480" y="25596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5"/>
            <p:cNvSpPr/>
            <p:nvPr/>
          </p:nvSpPr>
          <p:spPr>
            <a:xfrm rot="4644000">
              <a:off x="6609600" y="1465920"/>
              <a:ext cx="186228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6"/>
            <p:cNvSpPr/>
            <p:nvPr/>
          </p:nvSpPr>
          <p:spPr>
            <a:xfrm rot="7293600">
              <a:off x="6059160" y="413496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7"/>
            <p:cNvSpPr/>
            <p:nvPr/>
          </p:nvSpPr>
          <p:spPr>
            <a:xfrm rot="5988000">
              <a:off x="6604920" y="282420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8"/>
            <p:cNvSpPr/>
            <p:nvPr/>
          </p:nvSpPr>
          <p:spPr>
            <a:xfrm rot="14237400">
              <a:off x="1357560" y="4151880"/>
              <a:ext cx="1862280" cy="24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9"/>
            <p:cNvSpPr/>
            <p:nvPr/>
          </p:nvSpPr>
          <p:spPr>
            <a:xfrm rot="15619800">
              <a:off x="894240" y="294552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0"/>
            <p:cNvSpPr/>
            <p:nvPr/>
          </p:nvSpPr>
          <p:spPr>
            <a:xfrm rot="16963200">
              <a:off x="931680" y="155664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1"/>
            <p:cNvSpPr/>
            <p:nvPr/>
          </p:nvSpPr>
          <p:spPr>
            <a:xfrm rot="18269400">
              <a:off x="1473120" y="28728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2"/>
            <p:cNvSpPr/>
            <p:nvPr/>
          </p:nvSpPr>
          <p:spPr>
            <a:xfrm>
              <a:off x="3278160" y="2057400"/>
              <a:ext cx="281916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WordArt 13"/>
            <p:cNvSpPr txBox="1"/>
            <p:nvPr/>
          </p:nvSpPr>
          <p:spPr>
            <a:xfrm>
              <a:off x="3735360" y="2514600"/>
              <a:ext cx="178092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7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3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4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76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577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78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79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580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1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2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583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4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5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586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7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8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5410-9EF2-423C-9DFC-5772461C9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9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02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3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4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5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606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607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08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09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610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1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2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613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4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5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616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7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1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C6CB-3F45-41DE-9113-A1113D849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ai4"/>
          <p:cNvPicPr/>
          <p:nvPr/>
        </p:nvPicPr>
        <p:blipFill>
          <a:blip r:embed="rId1"/>
          <a:stretch/>
        </p:blipFill>
        <p:spPr>
          <a:xfrm>
            <a:off x="2916360" y="333360"/>
            <a:ext cx="3487680" cy="5357880"/>
          </a:xfrm>
          <a:prstGeom prst="rect">
            <a:avLst/>
          </a:prstGeom>
          <a:ln w="0">
            <a:noFill/>
          </a:ln>
        </p:spPr>
      </p:pic>
      <p:sp>
        <p:nvSpPr>
          <p:cNvPr id="62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1B91-EA9A-4B7D-AEA2-F234DD3C4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ai5"/>
          <p:cNvPicPr/>
          <p:nvPr/>
        </p:nvPicPr>
        <p:blipFill>
          <a:blip r:embed="rId1"/>
          <a:stretch/>
        </p:blipFill>
        <p:spPr>
          <a:xfrm>
            <a:off x="2771640" y="404640"/>
            <a:ext cx="3649680" cy="5381640"/>
          </a:xfrm>
          <a:prstGeom prst="rect">
            <a:avLst/>
          </a:prstGeom>
          <a:ln w="0">
            <a:noFill/>
          </a:ln>
        </p:spPr>
      </p:pic>
      <p:sp>
        <p:nvSpPr>
          <p:cNvPr id="62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C8D9-E540-4C50-82C5-B3E69DC11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ai6"/>
          <p:cNvPicPr/>
          <p:nvPr/>
        </p:nvPicPr>
        <p:blipFill>
          <a:blip r:embed="rId1"/>
          <a:stretch/>
        </p:blipFill>
        <p:spPr>
          <a:xfrm>
            <a:off x="2627280" y="404640"/>
            <a:ext cx="3941640" cy="5764320"/>
          </a:xfrm>
          <a:prstGeom prst="rect">
            <a:avLst/>
          </a:prstGeom>
          <a:ln w="0">
            <a:noFill/>
          </a:ln>
        </p:spPr>
      </p:pic>
      <p:sp>
        <p:nvSpPr>
          <p:cNvPr id="62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F774-CBC7-4B12-95F4-8637C4C46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ai7"/>
          <p:cNvPicPr/>
          <p:nvPr/>
        </p:nvPicPr>
        <p:blipFill>
          <a:blip r:embed="rId1"/>
          <a:stretch/>
        </p:blipFill>
        <p:spPr>
          <a:xfrm>
            <a:off x="755640" y="766800"/>
            <a:ext cx="7777080" cy="5151240"/>
          </a:xfrm>
          <a:prstGeom prst="rect">
            <a:avLst/>
          </a:prstGeom>
          <a:ln w="0">
            <a:noFill/>
          </a:ln>
        </p:spPr>
      </p:pic>
      <p:sp>
        <p:nvSpPr>
          <p:cNvPr id="63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C8E2-0B79-4A99-BAE9-A15EA4F8A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9" descr="168_5795"/>
          <p:cNvPicPr/>
          <p:nvPr/>
        </p:nvPicPr>
        <p:blipFill>
          <a:blip r:embed="rId2"/>
          <a:stretch/>
        </p:blipFill>
        <p:spPr>
          <a:xfrm>
            <a:off x="1042920" y="2637000"/>
            <a:ext cx="5145120" cy="36525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"/>
          <p:cNvSpPr/>
          <p:nvPr/>
        </p:nvSpPr>
        <p:spPr>
          <a:xfrm>
            <a:off x="2500560" y="620640"/>
            <a:ext cx="24786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á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 c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白     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591984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36C6-8698-4B09-A074-A38062C9B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73806f722rfnycd"/>
          <p:cNvPicPr/>
          <p:nvPr/>
        </p:nvPicPr>
        <p:blipFill>
          <a:blip r:embed="rId2"/>
          <a:stretch/>
        </p:blipFill>
        <p:spPr>
          <a:xfrm>
            <a:off x="1979640" y="278136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2202480" y="649440"/>
            <a:ext cx="29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玫       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2AE8-04D7-4656-8D66-67BC1D14A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3"/>
          <p:cNvSpPr/>
          <p:nvPr/>
        </p:nvSpPr>
        <p:spPr>
          <a:xfrm>
            <a:off x="1692360" y="2205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MS PGothic"/>
              </a:rPr>
              <a:t>a o e i u 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1763640" y="105264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单韵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1763640" y="3500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á  è  ǐ  ū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8644-ED7C-496B-A771-D9738E817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20075180292"/>
          <p:cNvPicPr/>
          <p:nvPr/>
        </p:nvPicPr>
        <p:blipFill>
          <a:blip r:embed="rId2"/>
          <a:stretch/>
        </p:blipFill>
        <p:spPr>
          <a:xfrm>
            <a:off x="1476360" y="2708280"/>
            <a:ext cx="4317840" cy="35305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3"/>
          <p:cNvSpPr/>
          <p:nvPr/>
        </p:nvSpPr>
        <p:spPr>
          <a:xfrm>
            <a:off x="2370600" y="620640"/>
            <a:ext cx="261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杯 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543D-6867-4887-A2D5-7BEE50E25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8"/>
          <p:cNvSpPr/>
          <p:nvPr/>
        </p:nvSpPr>
        <p:spPr>
          <a:xfrm>
            <a:off x="2282760" y="1401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" descr="20051475036753"/>
          <p:cNvPicPr/>
          <p:nvPr/>
        </p:nvPicPr>
        <p:blipFill>
          <a:blip r:embed="rId2"/>
          <a:stretch/>
        </p:blipFill>
        <p:spPr>
          <a:xfrm>
            <a:off x="1763640" y="2708280"/>
            <a:ext cx="3960720" cy="34290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11"/>
          <p:cNvSpPr/>
          <p:nvPr/>
        </p:nvSpPr>
        <p:spPr>
          <a:xfrm>
            <a:off x="2508120" y="636480"/>
            <a:ext cx="227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è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被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5E8B-E785-4DAD-BF76-4B5FBE1EC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4"/>
          <p:cNvSpPr/>
          <p:nvPr/>
        </p:nvSpPr>
        <p:spPr>
          <a:xfrm>
            <a:off x="2339640" y="620640"/>
            <a:ext cx="268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à     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大       海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yqlovestory,20070707123315855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CDBE-67C0-443C-91C3-45EAD51D3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5" descr="haigui2_002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2310120" y="620640"/>
            <a:ext cx="268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ī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海     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C966-5828-4165-AA0B-AC8129136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964300221847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854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2397960" y="620640"/>
            <a:ext cx="231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j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飞     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3A67-BDAD-4875-8DB0-07F2E63A9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5" descr="200610822521553377"/>
          <p:cNvPicPr/>
          <p:nvPr/>
        </p:nvPicPr>
        <p:blipFill>
          <a:blip r:embed="rId2"/>
          <a:stretch/>
        </p:blipFill>
        <p:spPr>
          <a:xfrm>
            <a:off x="539640" y="2492280"/>
            <a:ext cx="6264360" cy="39229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6"/>
          <p:cNvSpPr/>
          <p:nvPr/>
        </p:nvSpPr>
        <p:spPr>
          <a:xfrm>
            <a:off x="2185560" y="620640"/>
            <a:ext cx="285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梅      花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5776-5A68-4D3A-A658-3B27E4BAC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016p"/>
          <p:cNvPicPr/>
          <p:nvPr/>
        </p:nvPicPr>
        <p:blipFill>
          <a:blip r:embed="rId2"/>
          <a:stretch/>
        </p:blipFill>
        <p:spPr>
          <a:xfrm>
            <a:off x="1403280" y="2565360"/>
            <a:ext cx="4464000" cy="37512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6"/>
          <p:cNvSpPr/>
          <p:nvPr/>
        </p:nvSpPr>
        <p:spPr>
          <a:xfrm>
            <a:off x="2491200" y="549360"/>
            <a:ext cx="26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shǔ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袋   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474C-4724-4AC2-A816-D19C8B078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butterfly1"/>
          <p:cNvPicPr/>
          <p:nvPr/>
        </p:nvPicPr>
        <p:blipFill>
          <a:blip r:embed="rId2"/>
          <a:stretch/>
        </p:blipFill>
        <p:spPr>
          <a:xfrm>
            <a:off x="900000" y="4149720"/>
            <a:ext cx="1524240" cy="14349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butterfly1"/>
          <p:cNvPicPr/>
          <p:nvPr/>
        </p:nvPicPr>
        <p:blipFill>
          <a:blip r:embed="rId3"/>
          <a:stretch/>
        </p:blipFill>
        <p:spPr>
          <a:xfrm>
            <a:off x="2268360" y="4724280"/>
            <a:ext cx="1219320" cy="114804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684360" y="1125360"/>
            <a:ext cx="7416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ái ɡē      dài shǔ    mǎi c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á bēi    huà méi   wěi b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uíjīn     hē shuǐ    pái d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F737-4576-40EC-8D3A-F483D2B4F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2334240" y="5751360"/>
            <a:ext cx="11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āi sh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栽  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839400" y="5751360"/>
            <a:ext cx="9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i t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培  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5238720" y="5734080"/>
            <a:ext cx="13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í shu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 水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898560" y="4665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ā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shù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é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ǒ  qù  tí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u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栽    树  ，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培   土 ， 我   去  提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3789-3805-4BC4-BA9D-B7F1C366F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W020070323694530889248"/>
          <p:cNvPicPr/>
          <p:nvPr/>
        </p:nvPicPr>
        <p:blipFill>
          <a:blip r:embed="rId1"/>
          <a:srcRect l="14433" t="19520" r="10867" b="24384"/>
          <a:stretch/>
        </p:blipFill>
        <p:spPr>
          <a:xfrm>
            <a:off x="-36360" y="0"/>
            <a:ext cx="9432720" cy="566100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6"/>
          <p:cNvSpPr/>
          <p:nvPr/>
        </p:nvSpPr>
        <p:spPr>
          <a:xfrm>
            <a:off x="826920" y="58294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（    ），他（    ），我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35EB-461D-4654-BAB3-76F2A661A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C:\Documents and Settings\dell\桌面\12.jpg"/>
          <p:cNvPicPr/>
          <p:nvPr/>
        </p:nvPicPr>
        <p:blipFill>
          <a:blip r:embed="rId1"/>
          <a:stretch/>
        </p:blipFill>
        <p:spPr>
          <a:xfrm>
            <a:off x="0" y="0"/>
            <a:ext cx="9131400" cy="4214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"/>
          <p:cNvSpPr/>
          <p:nvPr/>
        </p:nvSpPr>
        <p:spPr>
          <a:xfrm>
            <a:off x="395280" y="907920"/>
            <a:ext cx="407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单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"/>
          <p:cNvSpPr/>
          <p:nvPr/>
        </p:nvSpPr>
        <p:spPr>
          <a:xfrm>
            <a:off x="5435640" y="98100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2557440" y="407664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3752280" y="4067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1787400" y="5373720"/>
            <a:ext cx="4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216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85308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1439640" y="392904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05DB-1A55-4826-BF02-7B5FAEA72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3"/>
          <p:cNvGrpSpPr/>
          <p:nvPr/>
        </p:nvGrpSpPr>
        <p:grpSpPr>
          <a:xfrm>
            <a:off x="4140360" y="2205000"/>
            <a:ext cx="4176360" cy="1584000"/>
            <a:chOff x="4140360" y="2205000"/>
            <a:chExt cx="4176360" cy="1584000"/>
          </a:xfrm>
        </p:grpSpPr>
        <p:sp>
          <p:nvSpPr>
            <p:cNvPr id="478" name="WordArt 4"/>
            <p:cNvSpPr txBox="1"/>
            <p:nvPr/>
          </p:nvSpPr>
          <p:spPr>
            <a:xfrm>
              <a:off x="414036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79" name="WordArt 5"/>
            <p:cNvSpPr txBox="1"/>
            <p:nvPr/>
          </p:nvSpPr>
          <p:spPr>
            <a:xfrm>
              <a:off x="732564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0" name="WordArt 6"/>
            <p:cNvSpPr txBox="1"/>
            <p:nvPr/>
          </p:nvSpPr>
          <p:spPr>
            <a:xfrm>
              <a:off x="5768640" y="2205000"/>
              <a:ext cx="99072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81" name="WordArt 7"/>
          <p:cNvSpPr txBox="1"/>
          <p:nvPr/>
        </p:nvSpPr>
        <p:spPr>
          <a:xfrm>
            <a:off x="826920" y="2205000"/>
            <a:ext cx="259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复韵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68360" y="549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拼音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3A63-FD61-429F-BC4B-14012521B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bb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WordArt 4"/>
          <p:cNvSpPr txBox="1"/>
          <p:nvPr/>
        </p:nvSpPr>
        <p:spPr>
          <a:xfrm>
            <a:off x="525780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ɑ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87" name="Group 5"/>
          <p:cNvGrpSpPr/>
          <p:nvPr/>
        </p:nvGrpSpPr>
        <p:grpSpPr>
          <a:xfrm>
            <a:off x="4211640" y="4076640"/>
            <a:ext cx="4648320" cy="895320"/>
            <a:chOff x="4211640" y="4076640"/>
            <a:chExt cx="4648320" cy="895320"/>
          </a:xfrm>
        </p:grpSpPr>
        <p:sp>
          <p:nvSpPr>
            <p:cNvPr id="488" name="WordArt 6"/>
            <p:cNvSpPr txBox="1"/>
            <p:nvPr/>
          </p:nvSpPr>
          <p:spPr>
            <a:xfrm>
              <a:off x="42116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ā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9" name="WordArt 7"/>
            <p:cNvSpPr txBox="1"/>
            <p:nvPr/>
          </p:nvSpPr>
          <p:spPr>
            <a:xfrm>
              <a:off x="5507280" y="407664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á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0" name="WordArt 8"/>
            <p:cNvSpPr txBox="1"/>
            <p:nvPr/>
          </p:nvSpPr>
          <p:spPr>
            <a:xfrm>
              <a:off x="680256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ǎ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1" name="WordArt 9"/>
            <p:cNvSpPr txBox="1"/>
            <p:nvPr/>
          </p:nvSpPr>
          <p:spPr>
            <a:xfrm>
              <a:off x="80978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à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92" name="Text Box 10"/>
          <p:cNvSpPr/>
          <p:nvPr/>
        </p:nvSpPr>
        <p:spPr>
          <a:xfrm>
            <a:off x="4859280" y="35733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BDAF-D26C-4BE1-876B-49F252074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5562720" y="137160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284720" y="4005360"/>
            <a:ext cx="4647960" cy="895320"/>
            <a:chOff x="4284720" y="4005360"/>
            <a:chExt cx="4647960" cy="895320"/>
          </a:xfrm>
        </p:grpSpPr>
        <p:sp>
          <p:nvSpPr>
            <p:cNvPr id="497" name="WordArt 5"/>
            <p:cNvSpPr txBox="1"/>
            <p:nvPr/>
          </p:nvSpPr>
          <p:spPr>
            <a:xfrm>
              <a:off x="42847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ē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8" name="WordArt 6"/>
            <p:cNvSpPr txBox="1"/>
            <p:nvPr/>
          </p:nvSpPr>
          <p:spPr>
            <a:xfrm>
              <a:off x="55800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é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9" name="WordArt 7"/>
            <p:cNvSpPr txBox="1"/>
            <p:nvPr/>
          </p:nvSpPr>
          <p:spPr>
            <a:xfrm>
              <a:off x="687528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ě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00" name="WordArt 8"/>
            <p:cNvSpPr txBox="1"/>
            <p:nvPr/>
          </p:nvSpPr>
          <p:spPr>
            <a:xfrm>
              <a:off x="81709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è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01" name="Picture 12" descr="e57b0565-c5b2-444d-9e93-ecfe79fd6f75"/>
          <p:cNvPicPr/>
          <p:nvPr/>
        </p:nvPicPr>
        <p:blipFill>
          <a:blip r:embed="rId2"/>
          <a:stretch/>
        </p:blipFill>
        <p:spPr>
          <a:xfrm>
            <a:off x="0" y="404640"/>
            <a:ext cx="4067280" cy="5400720"/>
          </a:xfrm>
          <a:prstGeom prst="rect">
            <a:avLst/>
          </a:prstGeom>
          <a:ln w="0">
            <a:noFill/>
          </a:ln>
        </p:spPr>
      </p:pic>
      <p:pic>
        <p:nvPicPr>
          <p:cNvPr id="502" name="拔萝卜.mp3" descr=""/>
          <p:cNvPicPr/>
          <p:nvPr/>
        </p:nvPicPr>
        <p:blipFill>
          <a:blip r:embed="rId3"/>
          <a:stretch/>
        </p:blipFill>
        <p:spPr>
          <a:xfrm>
            <a:off x="183528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4553-1B0D-4224-93BC-9D7337E9D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742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25279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WordArt 3"/>
          <p:cNvSpPr txBox="1"/>
          <p:nvPr/>
        </p:nvSpPr>
        <p:spPr>
          <a:xfrm>
            <a:off x="563868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4211640" y="4005360"/>
            <a:ext cx="4647960" cy="895320"/>
            <a:chOff x="4211640" y="4005360"/>
            <a:chExt cx="4647960" cy="895320"/>
          </a:xfrm>
        </p:grpSpPr>
        <p:sp>
          <p:nvSpPr>
            <p:cNvPr id="509" name="WordArt 5"/>
            <p:cNvSpPr txBox="1"/>
            <p:nvPr/>
          </p:nvSpPr>
          <p:spPr>
            <a:xfrm>
              <a:off x="42116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0" name="WordArt 6"/>
            <p:cNvSpPr txBox="1"/>
            <p:nvPr/>
          </p:nvSpPr>
          <p:spPr>
            <a:xfrm>
              <a:off x="550692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1" name="WordArt 7"/>
            <p:cNvSpPr txBox="1"/>
            <p:nvPr/>
          </p:nvSpPr>
          <p:spPr>
            <a:xfrm>
              <a:off x="68022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2" name="WordArt 8"/>
            <p:cNvSpPr txBox="1"/>
            <p:nvPr/>
          </p:nvSpPr>
          <p:spPr>
            <a:xfrm>
              <a:off x="80978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13" name="Picture 9" descr="c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2F43-B60A-40C7-BC38-A100BFD2E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1" descr="666666"/>
          <p:cNvPicPr/>
          <p:nvPr/>
        </p:nvPicPr>
        <p:blipFill>
          <a:blip r:embed="rId1"/>
          <a:stretch/>
        </p:blipFill>
        <p:spPr>
          <a:xfrm>
            <a:off x="-609480" y="-171360"/>
            <a:ext cx="97534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2"/>
          <p:cNvSpPr/>
          <p:nvPr/>
        </p:nvSpPr>
        <p:spPr>
          <a:xfrm>
            <a:off x="3551040" y="1557360"/>
            <a:ext cx="6523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白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白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wěi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尾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zuǐ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嘴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zài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在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45C7-BD94-405C-A393-82AEE5F70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666666"/>
          <p:cNvPicPr/>
          <p:nvPr/>
        </p:nvPicPr>
        <p:blipFill>
          <a:blip r:embed="rId1"/>
          <a:stretch/>
        </p:blipFill>
        <p:spPr>
          <a:xfrm>
            <a:off x="-324000" y="-136440"/>
            <a:ext cx="9649080" cy="72374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5"/>
          <p:cNvSpPr/>
          <p:nvPr/>
        </p:nvSpPr>
        <p:spPr>
          <a:xfrm>
            <a:off x="3708360" y="1125360"/>
            <a:ext cx="5651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wě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尾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uǐ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嘴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à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1EC4-1FA1-4402-9058-825F7BCB7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048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1:10Z</dcterms:created>
  <dc:creator/>
  <dc:description/>
  <cp:keywords/>
  <dc:language>en-US</dc:language>
  <cp:lastModifiedBy>User</cp:lastModifiedBy>
  <dcterms:modified xsi:type="dcterms:W3CDTF">2016-10-05T12:57:39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